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A4EA-1A01-4757-9C1D-CB969F00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E0B7-355F-40E0-A003-5626E14F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8469-E097-44E1-BA2D-734ED2170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5639-1FA6-43CA-BDCB-C4C6B048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E973-667A-4249-91E5-D01C03C0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6CE5-0FD8-492D-AE76-CB439E7A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7073-95E5-453D-9B22-63FAD3EB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2428-2B5F-4A10-9BC0-08038BB2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D74B-36FD-4C4C-887E-6AD38B86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8582-680C-41BD-A5C1-7F5AC527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6669-EA70-429D-A5A5-245CA02E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87A4-B8A3-4BB8-AF31-E1A965D0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6AD7-62BB-450E-8EB3-7E3E2F0C4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ostcards From Camp"/>
          <p:cNvPicPr/>
          <p:nvPr/>
        </p:nvPicPr>
        <p:blipFill>
          <a:blip r:embed="rId1"/>
          <a:stretch/>
        </p:blipFill>
        <p:spPr>
          <a:xfrm>
            <a:off x="1143000" y="914400"/>
            <a:ext cx="4319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20:21:17Z</dcterms:created>
  <dc:creator>HISD</dc:creator>
  <dc:description/>
  <dc:language>en-US</dc:language>
  <cp:lastModifiedBy>HISD</cp:lastModifiedBy>
  <dcterms:modified xsi:type="dcterms:W3CDTF">2013-02-26T20:21:38Z</dcterms:modified>
  <cp:revision>1</cp:revision>
  <dc:subject/>
  <dc:title>Slide 1</dc:title>
</cp:coreProperties>
</file>